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72C-0EB4-411A-B497-E52CB721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5F1-A12F-46F0-99A5-9C045392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0E3-FF42-4F2F-9DCC-57FE2A53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EC0-C35A-4C39-86B8-8B2F74C1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BFD-B18A-4292-B6DF-62A45D0D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3F3-B7A1-486E-8FBB-187978E4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623-A521-4524-9885-58A61DEE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86D-B5BE-4567-BE50-41609A13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5EC-81FF-47F8-B4A1-356D5288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906-45C7-4EDA-BF8D-60FACA9F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EF1-6446-49B7-941B-A820F647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4537-E8A7-4A55-ABF8-57D66672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A2DB-D44E-443C-838E-4B761AD1360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7668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211640" y="3313080"/>
            <a:ext cx="4932360" cy="3544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4"/>
          <p:cNvSpPr/>
          <p:nvPr/>
        </p:nvSpPr>
        <p:spPr>
          <a:xfrm>
            <a:off x="5455440" y="2565360"/>
            <a:ext cx="334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ndustry recommendation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here to site the probes - Trick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1"/>
          <p:cNvSpPr/>
          <p:nvPr/>
        </p:nvSpPr>
        <p:spPr>
          <a:xfrm>
            <a:off x="2954160" y="1898640"/>
            <a:ext cx="1182960" cy="261936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5"/>
          <p:cNvSpPr/>
          <p:nvPr/>
        </p:nvSpPr>
        <p:spPr>
          <a:xfrm>
            <a:off x="2340000" y="1670040"/>
            <a:ext cx="5432400" cy="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1"/>
          <p:cNvSpPr/>
          <p:nvPr/>
        </p:nvSpPr>
        <p:spPr>
          <a:xfrm>
            <a:off x="3441600" y="1703520"/>
            <a:ext cx="195480" cy="195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4064040" y="1630440"/>
            <a:ext cx="115920" cy="3016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3"/>
          <p:cNvSpPr/>
          <p:nvPr/>
        </p:nvSpPr>
        <p:spPr>
          <a:xfrm>
            <a:off x="4010040" y="1150920"/>
            <a:ext cx="227160" cy="457200"/>
          </a:xfrm>
          <a:custGeom>
            <a:avLst/>
            <a:gdLst>
              <a:gd name="textAreaLeft" fmla="*/ 10800 w 227160"/>
              <a:gd name="textAreaRight" fmla="*/ 216360 w 227160"/>
              <a:gd name="textAreaTop" fmla="*/ 10800 h 457200"/>
              <a:gd name="textAreaBottom" fmla="*/ 446400 h 457200"/>
            </a:gdLst>
            <a:ahLst/>
            <a:rect l="textAreaLeft" t="textAreaTop" r="textAreaRight" b="textAreaBottom"/>
            <a:pathLst>
              <a:path w="21600" h="43439">
                <a:moveTo>
                  <a:pt x="3600" y="0"/>
                </a:moveTo>
                <a:arcTo wR="3600" hR="3600" stAng="16200000" swAng="-5400000"/>
                <a:lnTo>
                  <a:pt x="0" y="39839"/>
                </a:lnTo>
                <a:arcTo wR="3600" hR="3600" stAng="10800000" swAng="-5400000"/>
                <a:lnTo>
                  <a:pt x="18000" y="434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6"/>
          <p:cNvSpPr/>
          <p:nvPr/>
        </p:nvSpPr>
        <p:spPr>
          <a:xfrm>
            <a:off x="5765760" y="1898640"/>
            <a:ext cx="1147680" cy="261936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7"/>
          <p:cNvSpPr/>
          <p:nvPr/>
        </p:nvSpPr>
        <p:spPr>
          <a:xfrm>
            <a:off x="6242040" y="1703520"/>
            <a:ext cx="195120" cy="1951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6591240" y="1652760"/>
            <a:ext cx="131760" cy="3014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9"/>
          <p:cNvSpPr/>
          <p:nvPr/>
        </p:nvSpPr>
        <p:spPr>
          <a:xfrm>
            <a:off x="6537240" y="1173240"/>
            <a:ext cx="227160" cy="457200"/>
          </a:xfrm>
          <a:custGeom>
            <a:avLst/>
            <a:gdLst>
              <a:gd name="textAreaLeft" fmla="*/ 10800 w 227160"/>
              <a:gd name="textAreaRight" fmla="*/ 216360 w 227160"/>
              <a:gd name="textAreaTop" fmla="*/ 10800 h 457200"/>
              <a:gd name="textAreaBottom" fmla="*/ 446400 h 457200"/>
            </a:gdLst>
            <a:ahLst/>
            <a:rect l="textAreaLeft" t="textAreaTop" r="textAreaRight" b="textAreaBottom"/>
            <a:pathLst>
              <a:path w="21600" h="43439">
                <a:moveTo>
                  <a:pt x="3600" y="0"/>
                </a:moveTo>
                <a:arcTo wR="3600" hR="3600" stAng="16200000" swAng="-5400000"/>
                <a:lnTo>
                  <a:pt x="0" y="39839"/>
                </a:lnTo>
                <a:arcTo wR="3600" hR="3600" stAng="10800000" swAng="-5400000"/>
                <a:lnTo>
                  <a:pt x="18000" y="434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8"/>
          <p:cNvSpPr/>
          <p:nvPr/>
        </p:nvSpPr>
        <p:spPr>
          <a:xfrm>
            <a:off x="2386800" y="4721400"/>
            <a:ext cx="230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ccess Tube placement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Limited measur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f wetting o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4"/>
          <p:cNvSpPr/>
          <p:nvPr/>
        </p:nvSpPr>
        <p:spPr>
          <a:xfrm>
            <a:off x="5054400" y="4759200"/>
            <a:ext cx="291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ccess Tube placed closer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ifferent measur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f wetting o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4064040" y="1928880"/>
            <a:ext cx="11592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4062240" y="2349360"/>
            <a:ext cx="11592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4065480" y="2781360"/>
            <a:ext cx="11592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4065480" y="3222720"/>
            <a:ext cx="11592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4059360" y="3716280"/>
            <a:ext cx="11592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4065480" y="4221000"/>
            <a:ext cx="11592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6605640" y="1998720"/>
            <a:ext cx="11592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6607080" y="2417760"/>
            <a:ext cx="11592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6607080" y="2849400"/>
            <a:ext cx="11592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6607080" y="3290760"/>
            <a:ext cx="11592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6602400" y="3784680"/>
            <a:ext cx="11592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6607080" y="4289400"/>
            <a:ext cx="11592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37:50Z</dcterms:created>
  <dc:creator>Bernie harden</dc:creator>
  <dc:description/>
  <dc:language>en-US</dc:language>
  <cp:lastModifiedBy>bharden</cp:lastModifiedBy>
  <dcterms:modified xsi:type="dcterms:W3CDTF">2014-06-04T00:29:30Z</dcterms:modified>
  <cp:revision>24</cp:revision>
  <dc:subject/>
  <dc:title>Slide 1</dc:title>
</cp:coreProperties>
</file>